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37D1-C825-41DB-96FB-04A58002D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81C-F99C-475A-A759-3A4C3959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AC8-DE89-4018-AE54-E6F4DE8D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CC0-B8B9-4FA3-A21B-43E7F094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822-00A0-4971-B6BD-1849E032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202-54BA-4AC2-A839-D6792635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FE7-9D36-4BAD-9E1A-7DACB70B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CFA-3DD7-4415-B508-14101DA9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302-8A1D-4DA9-9889-8E537B32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D39-242B-45F0-B338-A267AE46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1B6-CD71-4878-BD89-E240CD1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361-16EC-4B01-A3A6-52B305FC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B70-20B8-439B-B8CB-90EE9EC9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F124-5B3C-4F46-9FED-CC9AC6243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nalc.org/view/15014-Franklin-s-X-ray-diffraction-explanation-of-X-ray-pattern-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9/concept/index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nitrogenous bases identified by 19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X-ray diffraction images of DNA that suggested its double helix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 2nm, one turn 3.4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results from Chargaff &amp; Franklin’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a model of DNA with a double helix of 2 anti-parallel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 the Nobel Prize in 1962 (with Maurice Wilkins) for deducing the structur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9/concept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1.5 p.45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2-11-08T11:17:20Z</dcterms:modified>
  <cp:revision>82</cp:revision>
  <dc:subject/>
  <dc:title>Molecular Genetics</dc:title>
</cp:coreProperties>
</file>